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61E-D374-4D4C-8D6E-1A0B532F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575-F94E-48CC-BA41-E6358FE6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5BF-D661-4986-82DC-563FA3D8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EA5-E12A-4FF1-89BC-C05C8EF2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15C-0930-4D85-8B28-5DC70C3F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55E-5F1C-472C-A575-DDA103A8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29E-6CDB-4975-B0DC-9CBC3BF5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550-4756-4BC7-B32E-023B4073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AD3-36D9-4DDC-876B-8503F2F2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3B8-B52D-4C35-815B-8215B77D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C1E-4BD7-4E33-B610-E0C8B5CD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213-D992-4E1D-9648-D524F9F1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F02B-DCA8-4FDB-A1AE-98AD97977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Pj03997850000[1]"/>
          <p:cNvPicPr/>
          <p:nvPr/>
        </p:nvPicPr>
        <p:blipFill>
          <a:blip r:embed="rId1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MPj03997850000[1]"/>
          <p:cNvPicPr/>
          <p:nvPr/>
        </p:nvPicPr>
        <p:blipFill>
          <a:blip r:embed="rId2"/>
          <a:stretch/>
        </p:blipFill>
        <p:spPr>
          <a:xfrm>
            <a:off x="1371600" y="2128680"/>
            <a:ext cx="647712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Al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 flipH="1">
            <a:off x="1981080" y="2895480"/>
            <a:ext cx="9907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800600" y="32004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617220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57200" y="42670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876920" y="41148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2590920" y="1828800"/>
            <a:ext cx="838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495680" y="2514600"/>
            <a:ext cx="533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5867280" y="251460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3429000" y="3962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>
            <a:off x="3429000" y="38862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28600" y="56386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s will multiply by the subscripts….2x2….2x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 Counting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Balancing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28600" y="144792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are not created or destroyed during a chemical reaction. Scientists know that there must be the same number of atoms on each side of a the equation. To balance the chemical equation, you must add coefficients to the different parts of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ture of Rea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hemical reaction is when you create a new substance with unique physical and chemical proper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Na"/>
          <p:cNvPicPr/>
          <p:nvPr/>
        </p:nvPicPr>
        <p:blipFill>
          <a:blip r:embed="rId1"/>
          <a:stretch/>
        </p:blipFill>
        <p:spPr>
          <a:xfrm>
            <a:off x="228600" y="4267080"/>
            <a:ext cx="1790640" cy="1451160"/>
          </a:xfrm>
          <a:prstGeom prst="rect">
            <a:avLst/>
          </a:prstGeom>
          <a:ln w="0">
            <a:noFill/>
          </a:ln>
        </p:spPr>
      </p:pic>
      <p:sp>
        <p:nvSpPr>
          <p:cNvPr id="47" name="Line 7"/>
          <p:cNvSpPr/>
          <p:nvPr/>
        </p:nvSpPr>
        <p:spPr>
          <a:xfrm>
            <a:off x="2895480" y="4343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243828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chlorine"/>
          <p:cNvPicPr/>
          <p:nvPr/>
        </p:nvPicPr>
        <p:blipFill>
          <a:blip r:embed="rId2"/>
          <a:stretch/>
        </p:blipFill>
        <p:spPr>
          <a:xfrm>
            <a:off x="3429000" y="4038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salt"/>
          <p:cNvPicPr/>
          <p:nvPr/>
        </p:nvPicPr>
        <p:blipFill>
          <a:blip r:embed="rId3"/>
          <a:stretch/>
        </p:blipFill>
        <p:spPr>
          <a:xfrm>
            <a:off x="6400800" y="3809880"/>
            <a:ext cx="2362320" cy="1882800"/>
          </a:xfrm>
          <a:prstGeom prst="rect">
            <a:avLst/>
          </a:prstGeom>
          <a:ln w="0">
            <a:noFill/>
          </a:ln>
        </p:spPr>
      </p:pic>
      <p:sp>
        <p:nvSpPr>
          <p:cNvPr id="51" name="Line 16"/>
          <p:cNvSpPr/>
          <p:nvPr/>
        </p:nvSpPr>
        <p:spPr>
          <a:xfrm>
            <a:off x="5334120" y="4800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action Repres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sts use symbols to represent what happens in a chemical rea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presentation is called a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emical equ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09480" y="5410080"/>
            <a:ext cx="76201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    +    Cl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NaC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sodium chloride"/>
          <p:cNvPicPr/>
          <p:nvPr/>
        </p:nvPicPr>
        <p:blipFill>
          <a:blip r:embed="rId1"/>
          <a:stretch/>
        </p:blipFill>
        <p:spPr>
          <a:xfrm>
            <a:off x="5410080" y="3352680"/>
            <a:ext cx="34196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arts of an Eq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going into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ming out of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w of Conservation of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cannot be created or destroyed. The mass of the reactants entering the equation must equal the mass of the products exiting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hat goes in, must come out!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s of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ow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s” (“creates”, “produces”, “equal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ttle number after the element that tells how many of each element i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lence Charge (aka…oxidation numb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rge represented in the chemical equation to represent how the element will react with the other react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s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 number written before the elements when balancing the chemical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HC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resentation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iatomic elements) Gases are always written with a subscript of 2 when they are alone in th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arts of an Eq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the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Al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+     3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295280" y="297180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H="1">
            <a:off x="1066320" y="34290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1600200" y="34290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1600200" y="35812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37339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105520" y="29718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5410080" y="25909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7010280" y="3581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70866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777240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28600" y="4419720"/>
            <a:ext cx="1981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ffic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195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4419720" y="220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nc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7162920" y="4495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6248520" y="3276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5715000" y="5410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7467480" y="3200400"/>
            <a:ext cx="3049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80010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72388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 flipV="1">
            <a:off x="7543800" y="251424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7"/>
          <p:cNvSpPr/>
          <p:nvPr/>
        </p:nvSpPr>
        <p:spPr>
          <a:xfrm flipH="1" flipV="1">
            <a:off x="8000640" y="25905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bel the Pa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+  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2AgCl   +    Mg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Label Each of these in the above equation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efficients =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alence Charge =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ubscripts =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actants = One Under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ducts = Two Under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Yields = Sun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lancing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e to the law of conservation of mass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 goes in, must come out” of an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order to have the same number of atoms of each element that you started with…you must add coefficients. (big #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ill place the coefficient in front of the symbol and will multiply by the subscrip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9:54:27Z</dcterms:created>
  <dc:creator>PSSD</dc:creator>
  <dc:description/>
  <dc:language>en-US</dc:language>
  <cp:lastModifiedBy>jcameron</cp:lastModifiedBy>
  <dcterms:modified xsi:type="dcterms:W3CDTF">2013-04-22T13:05:24Z</dcterms:modified>
  <cp:revision>5</cp:revision>
  <dc:subject/>
  <dc:title>Chemical Reactions</dc:title>
</cp:coreProperties>
</file>